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844-55A2-4E47-A684-9F215FDA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646-3C94-4642-87A9-719B0802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050-B9B3-4539-9B9B-B709A4CF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AA8-825F-438D-8BDB-D7701725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7FA-EDBE-4F25-9C51-D44B0FF3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FDB-7FD6-41DD-917B-3B3968A1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315-C3A3-4C87-A6C1-D050C489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1A3-056B-465B-ADDD-24DAF1CF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209-6EFC-4D61-A861-CC3A64E7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D44-365E-4E45-9932-C6252D6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2C2-A338-48D8-B853-AFB3684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15C-A4E0-435F-8F56-C988FB4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1E41-D30D-4F9B-BCF8-98E65779C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468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826920" y="14940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Литературное чтение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3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9" descr=""/>
          <p:cNvPicPr/>
          <p:nvPr/>
        </p:nvPicPr>
        <p:blipFill>
          <a:blip r:embed="rId1"/>
          <a:stretch/>
        </p:blipFill>
        <p:spPr>
          <a:xfrm>
            <a:off x="-4932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39640" y="549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еренький, как мыш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Юркий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Глазки , как бусинки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аленьки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Прямая со стрелкой 6"/>
          <p:cNvCxnSpPr/>
          <p:nvPr/>
        </p:nvCxnSpPr>
        <p:spPr>
          <a:xfrm>
            <a:off x="6636960" y="4292640"/>
            <a:ext cx="11754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0"/>
          <p:cNvCxnSpPr/>
          <p:nvPr/>
        </p:nvCxnSpPr>
        <p:spPr>
          <a:xfrm flipH="1">
            <a:off x="1979280" y="3573000"/>
            <a:ext cx="79272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4"/>
          <p:cNvCxnSpPr/>
          <p:nvPr/>
        </p:nvCxnSpPr>
        <p:spPr>
          <a:xfrm flipV="1">
            <a:off x="4211640" y="1267560"/>
            <a:ext cx="5292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16"/>
          <p:cNvCxnSpPr/>
          <p:nvPr/>
        </p:nvCxnSpPr>
        <p:spPr>
          <a:xfrm flipH="1" flipV="1">
            <a:off x="1691640" y="2636640"/>
            <a:ext cx="115164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9" name="Саша Черный. Воробей.  Стихотворение (1).mp4" descr=""/>
          <p:cNvPicPr/>
          <p:nvPr/>
        </p:nvPicPr>
        <p:blipFill>
          <a:blip r:embed="rId2"/>
          <a:stretch/>
        </p:blipFill>
        <p:spPr>
          <a:xfrm>
            <a:off x="2643120" y="1643040"/>
            <a:ext cx="4484880" cy="257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609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9" descr=""/>
          <p:cNvPicPr/>
          <p:nvPr/>
        </p:nvPicPr>
        <p:blipFill>
          <a:blip r:embed="rId1"/>
          <a:stretch/>
        </p:blipFill>
        <p:spPr>
          <a:xfrm>
            <a:off x="-4932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214200" y="214200"/>
            <a:ext cx="8929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ние ударных и безударных слогов. Ритм придаёт музыкальность стихам.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− это созвучное окончание строк стихотворения. 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дает стихотворению мелодичность и законченность.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Khmer UI"/>
              </a:rPr>
              <a:t>1 апреля Международный день пт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214200" y="0"/>
            <a:ext cx="8572680" cy="81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Речевая разм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шка кукушонку купила капюшо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пюшоне кукушонок смешон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 сорок в короткий срок съели сыр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ей торопился, да маленький уродил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ронила ворона воронен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85680" y="-2556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_BentTitulDcFr"/>
              </a:rPr>
              <a:t>Отгадай-к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2"/>
          <a:stretch/>
        </p:blipFill>
        <p:spPr>
          <a:xfrm>
            <a:off x="179280" y="423720"/>
            <a:ext cx="3673440" cy="2880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457200" y="3857760"/>
            <a:ext cx="41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ка-невелич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ки имее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ходить не уме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т сделать шаж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 прыжок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ша Чёрный. Стихотворение «Воробей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887640" cy="493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познакомимся с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узнаем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будем учиться 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исатель написал много стихов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ля де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G:\Учитель года\Мой урок\11edd3d3564cc58c46e1b6dfc21e304ca99a270a.jpg"/>
          <p:cNvPicPr/>
          <p:nvPr/>
        </p:nvPicPr>
        <p:blipFill>
          <a:blip r:embed="rId2"/>
          <a:stretch/>
        </p:blipFill>
        <p:spPr>
          <a:xfrm>
            <a:off x="214200" y="1143000"/>
            <a:ext cx="857268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1. Саша Черный. Воробей.  Стихотворение (1).mp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5609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"/>
          <p:cNvPicPr/>
          <p:nvPr/>
        </p:nvPicPr>
        <p:blipFill>
          <a:blip r:embed="rId1"/>
          <a:stretch/>
        </p:blipFill>
        <p:spPr>
          <a:xfrm>
            <a:off x="-252360" y="-333360"/>
            <a:ext cx="9396360" cy="7327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BosaNovaDcFr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Юр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быстрый, увертлив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исе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елкие стеклянные цветные              бусинки, зёрнышки со сквозным отверст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ро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отдельно, не вме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кос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е прям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ичуж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ти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ьюш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крышка, которая закрывает           печную трубу для сохранения теп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аша Черный. Воробей.  Стихотворение (1).mp4" descr=""/>
          <p:cNvPicPr/>
          <p:nvPr/>
        </p:nvPicPr>
        <p:blipFill>
          <a:blip r:embed="rId2"/>
          <a:stretch/>
        </p:blipFill>
        <p:spPr>
          <a:xfrm>
            <a:off x="0" y="0"/>
            <a:ext cx="4857840" cy="2792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"/>
          <p:cNvPicPr/>
          <p:nvPr/>
        </p:nvPicPr>
        <p:blipFill>
          <a:blip r:embed="rId3"/>
          <a:stretch/>
        </p:blipFill>
        <p:spPr>
          <a:xfrm>
            <a:off x="2928960" y="2786040"/>
            <a:ext cx="5929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5609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5:09:44Z</dcterms:created>
  <dc:creator>Пользователь</dc:creator>
  <dc:description/>
  <dc:language>en-US</dc:language>
  <cp:lastModifiedBy>user</cp:lastModifiedBy>
  <dcterms:modified xsi:type="dcterms:W3CDTF">2025-11-24T01:20:31Z</dcterms:modified>
  <cp:revision>60</cp:revision>
  <dc:subject/>
  <dc:title>Презентация PowerPoint</dc:title>
</cp:coreProperties>
</file>